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6EF-0951-43A5-B7DD-0E8F6930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4D3-52DD-44C7-B8F2-50EFEC96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484-6AF1-479A-8D4A-11FB6C06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D37-2A5A-4543-BF6F-1AD4B47A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7A4-3969-4114-9C1F-FCB9DA6E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F10-1A10-4B48-83E3-1FA7E42F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594-4D21-400C-B8EE-20088B35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F6B-99A3-4BF8-9FA4-46CBC5B3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913-E2E5-4028-BA17-2BF62A54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890-DC6C-4CDF-B972-9614855B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B4A-6437-4A23-8070-2738D7AC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F30-FEE4-4325-8B7E-B1BDABEF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954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7C31-8581-4159-93B4-90A70C2D941A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3960" y="2286000"/>
            <a:ext cx="769608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北區毒災應變諮詢中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工研院 陳范倫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VAN@ITRI.ORG.TW</a:t>
            </a:r>
            <a:r>
              <a:rPr b="1" lang="zh-TW" sz="36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中華民國 九十一 年 十一 月 二十二 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90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Arial Narrow"/>
                <a:ea typeface="華康粗圓體"/>
              </a:rPr>
              <a:t>九十一年度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Arial Narrow"/>
                <a:ea typeface="華康粗圓體"/>
              </a:rPr>
              <a:t>緊急諮詢案例分析研討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0"/>
            <a:ext cx="495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66"/>
                </a:solidFill>
                <a:latin typeface="Arial"/>
                <a:ea typeface="華康粗圓體"/>
              </a:rPr>
              <a:t>行政院環境保護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115920"/>
            <a:ext cx="857520" cy="75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F1E-88D6-4C00-9409-4BBC824AAB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統友公司鐵桶膨脹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91764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上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9: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台北縣新莊市三和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8-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統友公司倉庫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脂肪族聚異氰酸化合物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Aliphatic polyisocyanat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1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上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9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時，北區毒災應變諮詢中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接獲拜耳公司邱經理通報，該公司所供應化學品下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倉儲業者倉庫內，發現一鐵桶膨脹變型，經確認該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非列管毒性化學物質，由消防同仁四位著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A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級防護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，攜帶工具進行鐵桶洩壓工作，事故於上午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1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25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解除，隨後進行災因調查、檢討與殘留物質清理工作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70A-FFAF-45F9-BFDE-63AF648B80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毒  災  特  性</a:t>
            </a:r>
            <a:r>
              <a:rPr b="0" lang="zh-TW" sz="4400" spc="-1" strike="noStrike">
                <a:solidFill>
                  <a:srgbClr val="eaeaea"/>
                </a:solidFill>
                <a:latin typeface="華康粗圓體"/>
                <a:ea typeface="華康粗圓體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066680"/>
            <a:ext cx="8001000" cy="56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伴隨重大火災及爆炸災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有大量傷患就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大範圍封鎖與管制及疏散民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需要成立災民收容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確認濃度範圍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偵測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伴隨大量污染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空氣、水、土壤、人員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民眾會特別焦慮，需要長時間追蹤輔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事後的廢棄物清除處理困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後續社會成本影響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32E9-204C-40C1-A0C7-C1DD306144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1143000"/>
            <a:ext cx="2895840" cy="198108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預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Prevention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1143000"/>
            <a:ext cx="2895480" cy="198108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整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Preparation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809880"/>
            <a:ext cx="2895480" cy="198144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應變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Response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733920"/>
            <a:ext cx="2895840" cy="198108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復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Recovery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3200400"/>
            <a:ext cx="0" cy="53352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800" y="4800600"/>
            <a:ext cx="99072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38280" y="3200400"/>
            <a:ext cx="0" cy="45720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15B-E527-44C7-A093-CC3BB65F61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22096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eaeaea"/>
                </a:solidFill>
                <a:latin typeface="Times New Roman"/>
                <a:ea typeface="華康粗圓體"/>
              </a:rPr>
              <a:t>毒災演練規劃重點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00C-E5EC-4B0C-A0B0-C40532961B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Times New Roman"/>
                <a:ea typeface="華康粗圓體"/>
              </a:rPr>
              <a:t>需先規劃演練計畫書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066680"/>
            <a:ext cx="8001000" cy="56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依據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災害防救法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目的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熟悉跨縣市支援的角色與能量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方式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高司作業、實際演練、裝備展示宣導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地點與籌備時間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儘量腹地廣大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指導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中央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、主辦、協辦、承辦單位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事故縣市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參演單位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跨縣市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習狀況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複合型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習項目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提升至中央層級災害規模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配合事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00D-7E7E-422A-ACF4-C9C70D80A3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1066680"/>
            <a:ext cx="800100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事故災害規模超過縣市應變能力範圍，需要其他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 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縣市支援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腳本規劃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特殊的搶救器材或應變裝備不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最好演出的是複合型災害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火災、毒災洩漏、大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 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傷患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.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對外求援通報的機制要突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中央協調，需成立中央災害應變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突顯整合後的應變指揮系統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現場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ER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成立明顯的資源器材集結區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Staging Are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Times New Roman"/>
                <a:ea typeface="華康粗圓體"/>
              </a:rPr>
              <a:t>跨縣市毒災演練特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895-83A8-4BF6-8903-B7673CD51B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一：事故發生通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990720"/>
            <a:ext cx="7848720" cy="56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發現人、 受傷人員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發生地點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E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發生時間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E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何種危害物、 情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-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洩漏、 火災、 爆炸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A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天氣情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eath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目前初步處理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HOW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建立通報與廣播詞範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毒災發生時需於一小時內通知環保單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C16-D1AC-4338-A66D-7C2326F493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9000" y="0"/>
            <a:ext cx="75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二：應變小組與應變中心成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990720"/>
            <a:ext cx="784872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小組的集結與清點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小組的指揮官與權責分工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Accountability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應變指揮中心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ERC)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的位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應變指揮中心的軟、硬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考量風向的因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有時為了掌握災情，需成立前進指揮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</a:t>
            </a: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Staging Are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031-B6B9-46DE-9A14-8318E2D0BC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三：危害確認及災情評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990720"/>
            <a:ext cx="7848720" cy="56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初期隔離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Isolate)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禁止進入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Deny Ent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必要時進行疏散民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利用望遠鏡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CCTV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G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危害標示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九大類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物質安全資料表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MSD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緊急應變程序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SOP)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或其他應變書籍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廠區平面圖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Layout)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P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＆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D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圖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鄰近地區圖及人口分佈資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msds61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150-E07B-48C9-B105-88C040150E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1066680"/>
            <a:ext cx="76960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指認：指認可能的危害源及危害物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Identif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估量：估量結果提供做決策及制定行動計畫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實：時間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位置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天氣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緊急事故特性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員傷亡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曝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可能性：生命危害性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災變速率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擴散區域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火災爆炸可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            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破壞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天氣的變化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可能救援的財產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狀況：考量事故過去、現在、未來狀況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預測能力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        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力、生產設備及週邊器材用具等狀況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資源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3920" y="0"/>
            <a:ext cx="743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IZE-UP(</a:t>
            </a:r>
            <a:r>
              <a:rPr b="1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災情評估</a:t>
            </a:r>
            <a:r>
              <a:rPr b="1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F3A-511A-4324-B58E-B68AF78FBC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湖口工業區友發化工意外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836640"/>
            <a:ext cx="79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6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事故地點：新竹縣湖口工業區友發化工廠儲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黃磷水溶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大年初五剛開工，新竹縣湖口工業區友發化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工廠在進行開工程序檢查時，發現黃磷溶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儲存槽的輸送管接縫處有外洩情況，漏出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黃磷產生大量的濃煙與嗆鼻的刺激味，外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量約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100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公斤左右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09E-D887-4BF2-8F44-EF6546304F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四：區域管制與登錄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143000"/>
            <a:ext cx="7772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警戒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Hot Zone)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.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在可偵測的環境下，以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/2IDLH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偵測值劃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2.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若無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DLH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，可以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0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倍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TWA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之偵測值劃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3.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若無法偵測，可參考緊急應變指南疏散建議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除污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arm Zone)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：以合適架設除污走道及水源處劃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安全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Cold Zone)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：前進指揮所、媒體管制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進出管制路線的控制與登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Rehab Area(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復原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7FB-33E4-47DF-931F-DDF7842D26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TRATEGY AND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TACTICS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戰略及戰術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OFFENSIVE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攻擊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DEFENSIVE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防守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急救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First Aid)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個人防護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PPE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滅火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Fire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止漏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Spill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搜救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Rescue)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決定行動的優先順序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priority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DSC00005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五：初期行動方案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CA7-E48D-4E75-863B-955332CE44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DECISION TREE(</a:t>
            </a:r>
            <a:r>
              <a:rPr b="1" lang="zh-TW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決策樹</a:t>
            </a:r>
            <a:r>
              <a:rPr b="1" lang="zh-TW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81720" y="148428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IZE-UP O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NCIDENT FACT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362320"/>
            <a:ext cx="0" cy="761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1360" y="323676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REEVALU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3733920"/>
            <a:ext cx="0" cy="761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9120" y="4532400"/>
            <a:ext cx="281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DOES INCID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CHANGE FAVORAB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5120" y="1442880"/>
            <a:ext cx="277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MAKE DECISIONS 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ACTIONS/STRATE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3623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91440" y="3043080"/>
            <a:ext cx="23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PECIFIC GO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AND OBJECT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38862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4080" y="453240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MPLEMENT TH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TACTICAL OPE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87692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371600"/>
            <a:ext cx="35812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A4A-F0FE-4ABC-9C0E-D04915D5B8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1066680"/>
            <a:ext cx="7391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R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escue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救援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疏散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2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E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xposure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防止曝露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3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C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ontainment/   Confinement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圍堵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4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E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xtinguish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撲滅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排除危害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5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V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entilation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排氣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6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O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verhaul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檢修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  </a:t>
            </a:r>
            <a:r>
              <a:rPr b="1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7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R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ecovery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復原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RECEVO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D81C-E17D-4BB3-B7B8-B3B77166E2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六：指揮權轉移</a:t>
            </a: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請求支援</a:t>
            </a: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914400"/>
            <a:ext cx="70866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卸任指揮官必須向新任指揮官做簡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.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狀況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現有情形、目標、優先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序、危險物、所需資源等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2.IAP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及現有狀況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3.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安全考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4.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操作單位人員的指派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C76-8682-4EE8-AE00-FF73950760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1066680"/>
            <a:ext cx="75438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員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器材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醫療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消防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附近友廠可用資源調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BASE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物資區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的選擇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: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只能有一個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DSC00013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D40-AFD2-4537-BA29-1371E3E2B6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七：整合的應變指揮系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143000"/>
            <a:ext cx="48765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指揮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Incident Comman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676520"/>
            <a:ext cx="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657600"/>
            <a:ext cx="712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4457880"/>
            <a:ext cx="18288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執行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457880"/>
            <a:ext cx="18288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後勤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Logist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4457880"/>
            <a:ext cx="198108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計畫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Plan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457880"/>
            <a:ext cx="18288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財務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Fin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981080"/>
            <a:ext cx="35053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安全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Safety Offi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981080"/>
            <a:ext cx="35049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新聞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Info. Offi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871720"/>
            <a:ext cx="36576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聯絡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Liaison Offi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2096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2209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124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208-066E-4175-9815-D63D03015E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87280" y="228600"/>
            <a:ext cx="8569080" cy="5600520"/>
            <a:chOff x="287280" y="228600"/>
            <a:chExt cx="8569080" cy="5600520"/>
          </a:xfrm>
        </p:grpSpPr>
        <p:sp>
          <p:nvSpPr>
            <p:cNvPr id="139" name=""/>
            <p:cNvSpPr/>
            <p:nvPr/>
          </p:nvSpPr>
          <p:spPr>
            <a:xfrm>
              <a:off x="601560" y="2413440"/>
              <a:ext cx="144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68280" y="2413440"/>
              <a:ext cx="144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36800" y="2413440"/>
              <a:ext cx="144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66680" y="2413440"/>
              <a:ext cx="180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69396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60836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91992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15780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2124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348400" y="2253960"/>
              <a:ext cx="180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554600" y="2253960"/>
              <a:ext cx="180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608360" y="771120"/>
              <a:ext cx="0" cy="5760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08040" y="100908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342280" y="1009080"/>
              <a:ext cx="0" cy="34452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08040" y="1002960"/>
              <a:ext cx="7734240" cy="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713040" y="1002960"/>
              <a:ext cx="0" cy="34416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421240" y="1002960"/>
              <a:ext cx="0" cy="34416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151320" y="1009080"/>
              <a:ext cx="0" cy="34452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906960" y="1002960"/>
              <a:ext cx="0" cy="34416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542000" y="1009080"/>
              <a:ext cx="0" cy="34452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274760" y="100260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966680" y="100260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836800" y="99612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32600" y="2565360"/>
              <a:ext cx="923760" cy="32540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執行災情查報、災害搶救、治安維護、交通疏導、犯罪偵防及災民救助等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72080" y="2565360"/>
              <a:ext cx="428760" cy="3263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有關涉外之協調聯繫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83320" y="2565360"/>
              <a:ext cx="657000" cy="326376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支援災害偵檢、除毒、災情蒐集及通報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5640" y="2565360"/>
              <a:ext cx="657360" cy="3263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穩定金融股匯市及救災款項撥付等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44840" y="2565360"/>
              <a:ext cx="419040" cy="3263760"/>
            </a:xfrm>
            <a:prstGeom prst="rect">
              <a:avLst/>
            </a:prstGeom>
            <a:solidFill>
              <a:srgbClr val="ffb5b5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執行防災教育宣導等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00480" y="2565360"/>
              <a:ext cx="914400" cy="32637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加強工業設施安全防護工作，督促所屬事業採取自來水及電力破壞防止措施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11360" y="2565360"/>
              <a:ext cx="657360" cy="32637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加強航空、港口及其他交通設施安全防範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12720" y="2565360"/>
              <a:ext cx="866880" cy="3263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災害新聞發布事項，加強宣導民眾認識毒氣災害及其防救常識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25400" y="2565360"/>
              <a:ext cx="657360" cy="32637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負責緊急醫療及執行傷患救護作業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7280" y="2565360"/>
              <a:ext cx="628560" cy="32637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災害現場檢測及污染整治監控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6160" y="2565360"/>
              <a:ext cx="447480" cy="326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加強勞工作業環境安全檢查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26320" y="228600"/>
              <a:ext cx="2792160" cy="52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74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中央災害應變中心職責架構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21600" y="1127160"/>
              <a:ext cx="509400" cy="13377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內政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21680" y="1127160"/>
              <a:ext cx="509400" cy="1337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外交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80160" y="1127160"/>
              <a:ext cx="509400" cy="133776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國防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24520" y="1127160"/>
              <a:ext cx="509400" cy="1337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財政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81480" y="1127160"/>
              <a:ext cx="509400" cy="1337760"/>
            </a:xfrm>
            <a:prstGeom prst="rect">
              <a:avLst/>
            </a:prstGeom>
            <a:solidFill>
              <a:srgbClr val="ffb5b5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教育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7160" y="1127160"/>
              <a:ext cx="509400" cy="13377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經濟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67160" y="1127160"/>
              <a:ext cx="509400" cy="13377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交通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45280" y="907920"/>
              <a:ext cx="399240" cy="1749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新聞局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9720" y="914760"/>
              <a:ext cx="399240" cy="1749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勞委會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82000" y="914760"/>
              <a:ext cx="399240" cy="17492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衛生署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9120" y="914760"/>
              <a:ext cx="399240" cy="1749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環保署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75A-3359-4E71-A053-C556976798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66680" y="914400"/>
            <a:ext cx="784872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災區之污染濃度再確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員除污處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除污後的衣物及器材需留置於除污區內 收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現場災後處理：災後復原計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應變人員的健康追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DSC00008" descr=""/>
          <p:cNvPicPr/>
          <p:nvPr/>
        </p:nvPicPr>
        <p:blipFill>
          <a:blip r:embed="rId2"/>
          <a:stretch/>
        </p:blipFill>
        <p:spPr>
          <a:xfrm>
            <a:off x="5562720" y="35053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八：除污與災後善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D8B-5F7A-4A37-A1EA-4DCCA363A0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1295280"/>
            <a:ext cx="784872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此部份通常不演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由事故主管機關為主，協同消防、衛生、勞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警察與相關專家學者進行調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調查結束提出報告，供相關單位檢討改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九：災因調查工作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0DE-CEF9-4F5B-9D31-406E390834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花蓮航空站氯氣鋼瓶外洩事故</a:t>
            </a:r>
            <a:r>
              <a:rPr b="0" lang="zh-TW" sz="18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08000" y="907920"/>
            <a:ext cx="813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0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事故地點：花蓮縣航空站附近空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氯氣鋼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上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花蓮縣航空站附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民眾發現黃色鋼瓶一支，鋼瓶外觀黃色鏽蝕，有刺激性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嗆鼻味溢出，花蓮航空站主任電詢工研院葉德惠經理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經研判可能為氯氣。陳范倫緊急出發前往花蓮協助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理，並通知中華紙漿公司緊急應變人員攜帶偵測器及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理工具組前往協助搶救。經初步止漏後，將鋼瓶移往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華紙漿公司廠內洩氣，事故於下午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3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：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25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解除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FA1-8F73-4068-8878-B55CA8C4DC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1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基隆港碼頭區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-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苯基比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全真標準楷書"/>
              </a:rPr>
              <a:t>啶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外洩事故</a:t>
            </a:r>
            <a:r>
              <a:rPr b="1" lang="zh-TW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836640"/>
            <a:ext cx="799308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6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5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事故地點：基隆市基隆港務局貨櫃碼頭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苯基比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全真標準楷書"/>
              </a:rPr>
              <a:t>啶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53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加侖鐵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下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6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吉洋船務公司通報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基隆港消防隊，該公司運輸船上一只貨櫃有洩漏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-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苯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比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全真標準楷書"/>
              </a:rPr>
              <a:t>啶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之虞。該公司貨櫃不下港，人員以大量吸液棉及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屑進行吸收圍堵。隔天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接獲通報，該貨櫃已落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且有持續洩漏的情形。毒災應變諮詢中心出動偵測小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與應變人員趕赴現場支援，經過偵測確認濃度為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15PP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低於容許濃度後，開始進行清櫃與止漏工作。於下午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完成止漏，解除災害狀況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284-722B-4DB9-B2CC-DAB11A760E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-1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仁愛游泳池疑似氯氣外洩事故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836640"/>
            <a:ext cx="77770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晚上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:5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台北縣蘆洲市民族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8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仁愛游泳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人送醫，其中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人住院觀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漂白水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次氯酸鈉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用途為游泳池消毒用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酸液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檸檬酸、鹽酸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用於調整泳池的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PH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晚上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:5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某化學公司進行仁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游泳池漂白水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次氯酸鈉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灌裝過程中，誤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漂白水打入酸槽中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檸檬酸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，導致次氯酸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與檸檬酸起化學反應，產生低濃度的氯氣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泳客在吸入氯氣後身體不適送醫。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720-BDD3-4A94-A548-40576C71D1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1080"/>
            <a:ext cx="91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德豐祥苯乙烯及水膠儲槽外洩事故</a:t>
            </a:r>
            <a:r>
              <a:rPr b="0" lang="zh-TW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836640"/>
            <a:ext cx="77770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下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:2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桃園縣八德市建國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86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德豐祥公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苯乙烯單體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SM)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製作水膠的原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水膠：用於製作壓克力，衣服纖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9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下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:2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德豐祥公司委託台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機械公司進行廠房整地與儲槽搬運工作時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員工不慎以堆高機將兩個化學桶槽戳破，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成苯乙烯及水膠外洩，現場瀰漫濃烈刺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位，大量洩漏液因大雨關係沿污水道漫流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261-572F-4DA9-92D4-00329A3FA9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-1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埤頭鄉外環道氯乙烯槽車外洩事故</a:t>
            </a:r>
            <a:r>
              <a:rPr b="0" lang="zh-TW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907920"/>
            <a:ext cx="7848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6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凌晨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0:3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彰化縣埤頭鄉外環道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省道附近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輝宇公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司機死亡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因車禍受傷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氯乙烯單體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VC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6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凌晨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00:1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輝宇公司運送氯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烯的槽車發生車禍，司機受傷過重死亡，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乙烯槽體底部因碰撞導致些微洩漏，有白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產生，且白煙有下降的趨勢，消防人員緊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以大量水霧冷卻槽體，輝宇公司緊急應變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員趕赴現場處理，將槽體緊急止漏後運回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份華夏公司洩料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876-73F7-4618-A7E4-71980178CB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平鎮淨水場氯氣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91764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上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0:2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桃園縣平鎮市湧安里南豐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6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人送醫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氯氣：消毒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8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上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0:2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淨水場淨水股陳股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接獲敬鵬公司員工電話反應，聞到刺激性氯氣味道，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股長會同四位處理人員，著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A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級防護衣進入關閉氯桶開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消防隊員亦於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0:25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抵達協助水霧噴灑，於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0:40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完成止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並開始通風排氣，此事件造成附近工業區各工廠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37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位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工送醫，另外還有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位消防同仁送醫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B8A-0083-4B73-8B15-D76FE48C34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輝宇公司氯乙烯槽車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91764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0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上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4:5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苗栗縣造橋鄉台十三乙線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氯乙烯：無外洩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柴油：破裂外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輝宇通運公司運輸車輛於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AM4:5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行經台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三乙線造橋段時，因當時路段並未設置路燈，而反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標誌亦損毀，於事故地點突然衝出一隻小狗，駕駛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閃避小狗而撞上不明之尖銳物（疑似貨櫃車之固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栓），造成方向盤輪胎爆裂，而使車輛失控撞上安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島槽車橫躺於路中，槽內物質並未洩漏，人員無傷亡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23E-84CC-4D95-B5FA-EE127EB2B2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06:09:57Z</dcterms:created>
  <dc:creator>790773</dc:creator>
  <dc:description/>
  <dc:language>en-US</dc:language>
  <cp:lastModifiedBy>aaa</cp:lastModifiedBy>
  <cp:lastPrinted>2000-09-22T06:43:47Z</cp:lastPrinted>
  <dcterms:modified xsi:type="dcterms:W3CDTF">2002-05-21T03:28:23Z</dcterms:modified>
  <cp:revision>101</cp:revision>
  <dc:subject/>
  <dc:title>無投影片標題</dc:title>
</cp:coreProperties>
</file>